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wmf" ContentType="image/x-wmf"/>
  <Override PartName="/ppt/media/image6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4C5161-B5D3-422D-8512-38B1F7C05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4794AA-51BF-467E-8223-F04AE93B2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82246C-9BD6-43CD-9B9C-F1B1DAD62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E6C596-B0E0-47D1-9A9D-E9B1EA95B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74AC3-D520-4DBB-B9CE-17032061D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C162E-E7D7-4497-94B4-5DB673A2C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FD783-AB28-4371-8260-86552E465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5A9F2-7168-47AA-81A6-229FA8A7B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5D9D0-0B34-4A2A-9CC7-5F5DD2091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3EA30-EEFF-4C47-A6B2-870B6D145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33831-A0DB-4C89-A4CA-B560EE262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3B1789-4E2E-4214-80D9-599EBD981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92391-19AB-47C6-A020-51AB70B85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D5784-7E69-4613-B998-960B7AA81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C2E03-0A11-4FC8-BA77-25FF38158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6FA6B-5C73-421A-97E9-CF341E817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F73DA-1FE6-4EB7-B746-4240EECA8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556CC7-5C95-4C96-BDA0-EDF4A447B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877016-8B85-4D7A-99AA-8183CB1AA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BF51BE-8DFB-488F-94EF-FBDDED98B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89A881-E383-443A-BAEA-B471C7664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DF83DC-2526-4836-B2B4-6A63B2D8B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46F151-225A-4D2F-8A1D-8635DD65B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6080DD-D7D2-4795-859E-493184B96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1C5A9-32AF-4929-B454-3D123BB6E86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E2420-51FB-4E86-8A75-FF1984AB3E4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comtel.cz/cz/?s=vyuka&amp;l=pred_detail&amp;kod=106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681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000" spc="-1" strike="noStrike">
                <a:solidFill>
                  <a:srgbClr val="000000"/>
                </a:solidFill>
                <a:latin typeface="Arial"/>
              </a:rPr>
              <a:t>Multiplexní metody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16000" y="2205000"/>
            <a:ext cx="489564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Arial"/>
              </a:rPr>
              <a:t>X32TSS - Telekomunikační systémy a sítě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ffffff"/>
                </a:solidFill>
                <a:latin typeface="Arial"/>
              </a:rPr>
              <a:t>Seminární projek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ffffff"/>
                </a:solidFill>
                <a:latin typeface="Arial"/>
              </a:rPr>
              <a:t>Vypracovali: Zuzana Kútn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17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cs-CZ" sz="1700" spc="-1" strike="noStrike">
                <a:solidFill>
                  <a:srgbClr val="ffffff"/>
                </a:solidFill>
                <a:latin typeface="Arial"/>
              </a:rPr>
              <a:t>Petr Votav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ffffff"/>
                </a:solidFill>
                <a:latin typeface="Arial"/>
              </a:rPr>
              <a:t>6.semestr 2005/2006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WDM- Wave Division multiplex 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inc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yužívá posunutých vlnových déle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enosové médium- optické vlák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ypy WD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WDM (Density WDM)- rozestupy mezi kanály jednotky n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CWDM (Coarse WDM)- rozestupy mezi signály desítky n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ptimalizace přenosové ces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ro lepší využití přenosových cest pracujeme s digitalizovaným a sdruženým signálem. Hovoříme o TDM+WDM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00D287-7B18-4587-9DC7-F0EB03D8ED5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WDM- Wave Division multiplex I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esilovače signál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Elektronick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ložitější zařízení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utnost převodu optického signálu na elektrický, oprava časování a tvar, převod zpět na optický signá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ptick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EDFA (Erbium Doped Fiber Amplifier)- zesilovač na optické bázi (stimulovaná emise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→zesílení světelného toku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ýhoda: při 32 kanálovém provozu potřebujeme pouze 9 EDFA zesilovačů (1000 Km) oproti 288 elekronickým zesilovačů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23670F-73DE-4590-8170-3EA64BC6A4A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ávě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doucnost       optická vedení      WD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ysoká přenosová rychl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olehlivost a kvalita přenos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3132000" y="4076640"/>
            <a:ext cx="2286000" cy="160020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2627280" y="206064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76720" y="2060640"/>
            <a:ext cx="433440" cy="287280"/>
          </a:xfrm>
          <a:prstGeom prst="rightArrow">
            <a:avLst>
              <a:gd name="adj1" fmla="val 50000"/>
              <a:gd name="adj2" fmla="val 37719"/>
            </a:avLst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643AD3-6EB4-4236-8227-F301FC2BEC5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droje informa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ni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voboda, J., a spol. : Telekomunikační technika II. díl, Přenos dat, spojovací a přenosové systémy, Odborné nakladatelství 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ü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nti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&amp;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Beneš, Praha, 20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Comtel : </a:t>
            </a:r>
            <a:r>
              <a:rPr b="0" lang="cs-CZ" sz="20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http://www.comtel.cz/cz/?s=vyuka&amp;l=pred_detail&amp;kod=106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11D2EA-6F4A-43EC-BB86-479ED24D2B3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Úv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ákladní rozdělení multiplex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DM – Frequency Division Multipl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incip frekvenčního multiplex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2- drátový stejnopásmový (různopásmový) provo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DM- Time Division Multipl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incip časového multiplex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DM- Code Division Multipl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DM- Wave Division multipl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ávě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dro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9489AF-937D-4425-B128-3ECFFF2724F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ákladní rozdělení multiplex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ozvoj telekomunikačních služeb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→ zvyšování kapacity přenosových kanál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Možnosti řeš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Výměna starých kabelů za nové s více žilami → neekonomick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ultiplex = lepší využití stávajících přenosových ces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ypy multiplexů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bvodov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Frekvenční (FD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Časový (TD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ódový (CD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lnový (WD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126880-4576-429D-9BE8-EFFA0EDCED5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DM – Frequency Division Multip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2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inc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yužívá frekvenčně posunutých hovorových pásem (AM modula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Šířka hovorového pásma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f = 3100 H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odstupy pásem 900 Hz → šířka přenášeného pásma 4000 H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Obsazení frekvenčního pás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Analogie s radiovým signál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Použití stíněných vodičů → na všech mohou být stejné frekv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Uspořádání přenosové ces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2- drátové stejnopásmov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2- drátové různopásmov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4- drátové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5F4EC1-E6AF-4150-B2FF-C7C6D11AE3F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incip frekvenčního multiplex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201760" y="1341360"/>
            <a:ext cx="4821480" cy="5256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CFBB7C-134C-458B-818E-23C8281A1D6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- drátový stejnopásmový (různopásmový) provo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2987640" y="3716280"/>
            <a:ext cx="5905440" cy="236052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1116000" y="2205000"/>
            <a:ext cx="11523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285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116000" y="4365720"/>
            <a:ext cx="11523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285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924360" y="3429000"/>
            <a:ext cx="11523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285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04000" y="4437000"/>
            <a:ext cx="115272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285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F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395280" y="1628640"/>
            <a:ext cx="5472000" cy="4748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F508E4-BF1F-4A28-AA5E-84D6BF1378F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DM- Time Division Multip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inc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Časové dělení kanálu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→každý signál má přidělen určitý časový úsek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Úseku přiřadíme jeho okamžitou hodnotu v určitém čase (vzorkování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Vzorkovací frekv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Musí splňovat Shannon- Kotělnikovův teoré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v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≥ 2*f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m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Pro telefonní signál je f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v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 = 8000 H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CM 1.řád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V praxi se TDM kombinuje s digitalizací signálu, tomu odpovídá PCM 1.řád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8E9CC4-D6C5-4077-997C-B3C65799717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incip časového multiplex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971640" y="1413000"/>
          <a:ext cx="2203200" cy="511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1413000"/>
                    <a:ext cx="2203200" cy="511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4284720" y="2349360"/>
            <a:ext cx="4038480" cy="281016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5076720" y="4797360"/>
            <a:ext cx="194472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2858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ynchroniz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702880" y="2637000"/>
            <a:ext cx="1864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743040" indent="-2858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1.kaná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702880" y="3068640"/>
            <a:ext cx="1864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743040" indent="-2858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2.kaná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702880" y="3573360"/>
            <a:ext cx="1864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743040" indent="-2858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3.kaná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702880" y="4005360"/>
            <a:ext cx="1864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743040" indent="-2858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4.kaná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563960" y="2637000"/>
            <a:ext cx="1864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743040" indent="-2858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1.kaná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563960" y="3068640"/>
            <a:ext cx="1864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743040" indent="-2858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2.kaná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563960" y="3573360"/>
            <a:ext cx="1864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743040" indent="-2858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3.kaná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563960" y="4005360"/>
            <a:ext cx="1864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743040" indent="-2858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4.kaná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233040" y="1989000"/>
            <a:ext cx="17172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743040" indent="-285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M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287960" y="1989000"/>
            <a:ext cx="15526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743040" indent="-285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7BEA16-249A-4624-A5C9-11DD4D9D561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DM- Code Division Multip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inc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ílčí přenosy jsou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"zakódovány" do jediného spo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leč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ného p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ř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nosu</a:t>
            </a:r>
            <a:r>
              <a:rPr b="1" i="1" lang="cs-CZ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aždý účastník si z tohoto celku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ekóduj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co mu p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řísluší, pomocí kódu</a:t>
            </a:r>
            <a:r>
              <a:rPr b="1" i="1" lang="cs-CZ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aždý z přenášených signálů používá jiný kód (pseudonásobnou sekvenci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ýhoda -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vysoká efektivnost vyu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tí dostupného frekvenčního pásma</a:t>
            </a:r>
            <a:r>
              <a:rPr b="1" i="1" lang="cs-CZ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BB16F2-C451-4C01-8600-E671323E48E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0T17:44:08Z</dcterms:created>
  <dc:creator>petr</dc:creator>
  <dc:description/>
  <dc:language>en-US</dc:language>
  <cp:lastModifiedBy>student</cp:lastModifiedBy>
  <dcterms:modified xsi:type="dcterms:W3CDTF">2006-05-23T11:52:58Z</dcterms:modified>
  <cp:revision>34</cp:revision>
  <dc:subject/>
  <dc:title>Multiplexní metody</dc:title>
</cp:coreProperties>
</file>