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E7F44-19BE-4820-8DC8-25439229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C1E7B-5FFD-4562-8BBF-6B49A9DA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FAFB2-5670-4DAC-A869-0C8AB3E23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E7937-4554-4A9D-997B-30E8BF1D5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901D4-3902-4CD9-BECC-C9819AB3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819A8-E9F7-4AC5-98E5-CA2EF9BF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BBBAC-2D87-41B4-895A-BC329D03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276D2-1211-4F22-BB02-84FC7F2E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35A8-BD71-4F9D-8970-140AF4C1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5FB36-A8CC-4ED4-9F17-D9E729B91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5464-2EE2-4063-9C1C-5394913E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F65D7-8DB8-4F7F-B8A6-529E1B00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EF9F-5267-4C40-B1B0-64C65AC85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0BAAF-5E41-4DDE-AABE-E7A66409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E250-9857-4999-A2BF-3A54117E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8E6C-C1CF-49C7-9051-B2B0C8840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A9C9-EC3A-4DAC-8A18-6EFA5557F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E7869-C392-4E4E-A75E-0662103A9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4F997-951A-4521-9EBE-13870E54F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4D748-61CA-40FB-AAAF-B688A479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616A7-2B86-482D-B704-11D2B9C54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E5E44-0BD7-402C-A6DA-5D400B07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CD5092-B112-40B7-AD93-3DF2A9B8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CC829-2CA2-4D01-9255-14066FC2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CE6A-96CD-4387-871D-0950A08DD9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767D-EBDB-4405-9955-C59EFB3D00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comtel.cz/cz/?s=vyuka&amp;l=pred_detail&amp;kod=106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68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000" spc="-1" strike="noStrike">
                <a:solidFill>
                  <a:srgbClr val="000000"/>
                </a:solidFill>
                <a:latin typeface="Arial"/>
              </a:rPr>
              <a:t>Multiplexní metody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16000" y="2205000"/>
            <a:ext cx="4895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ffffff"/>
                </a:solidFill>
                <a:latin typeface="Arial"/>
              </a:rPr>
              <a:t>X32TSS - Telekomunikační systémy a sítě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Seminární projek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Vypracovali: Zuzana Kút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Petr Vota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ffffff"/>
                </a:solidFill>
                <a:latin typeface="Arial"/>
              </a:rPr>
              <a:t>6.semestr 2005/200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posunutých vlnových déle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nosové médium- optické vlák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WDM (Density WDM)- rozestupy mezi kanály jedno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WDM (Coarse WDM)- rozestupy mezi signály desítky n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malizace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lepší využití přenosových cest pracujeme s digitalizovaným a sdruženým signálem. Hovoříme o TDM+WD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EA524-2761-4E9F-89D6-CD3FA3289E1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DM- Wave Division multiplex I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silovače signá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lektron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zaříz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utnost převodu optického signálu na elektrický, oprava časování a tvar, převod zpět na optický sign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DFA (Erbium Doped Fiber Amplifier)- zesilovač na optické bázi (stimulovaná emis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zesílení světelného tok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: při 32 kanálovém provozu potřebujeme pouze 9 EDFA zesilovačů (1000 Km) oproti 288 elekronickým zesilovačů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85FCF-7B38-4A28-809C-8861B07DEC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oucnost       optická vedení      W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ysoká přenosová rychl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lehlivost a kvalita přeno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132000" y="4076640"/>
            <a:ext cx="2286000" cy="16002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627280" y="206064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76720" y="2060640"/>
            <a:ext cx="433440" cy="287280"/>
          </a:xfrm>
          <a:prstGeom prst="rightArrow">
            <a:avLst>
              <a:gd name="adj1" fmla="val 50000"/>
              <a:gd name="adj2" fmla="val 37719"/>
            </a:avLst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64C88-179B-49BD-878C-67CDA79198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droje inform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ni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voboda, J., a spol. : Telekomunikační technika II. díl, Přenos dat, spojovací a přenosové systémy, Odborné nakladatelství 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ü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nti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&amp;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Beneš, Praha,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omtel : </a:t>
            </a:r>
            <a:r>
              <a:rPr b="0" lang="cs-CZ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www.comtel.cz/cz/?s=vyuka&amp;l=pred_detail&amp;kod=10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1BD40-E18D-4C66-BB12-9AD0BA9028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DM- Wave Division multi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2ADA7-D45B-497F-BEA2-DFF9DB9BF8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kladní rozdělení multiplex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telekomunikačních služeb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→ zvyšování kapacity přenosových kanál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Možnosti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měna starých kabelů za nové s více žilami → neekonom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ultiplex = lepší využití stávajících přenosových c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ypy multiplex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vodov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rekvenční (F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ý (T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ódový (C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lnový (WD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639B3-F4FA-4EB6-B441-6C59A3FC3F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DM – Frequency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2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ívá frekvenčně posunutých hovorových pásem (AM modul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Šířka hovorového pásma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 = 31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dstupy pásem 900 Hz → šířka přenášeného pásma 4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Obsazení frekvenčního pá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nalogie s radiovým signá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užití stíněných vodičů → na všech mohou být stejné frekv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Uspořádání přenosové ces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stej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- drátové různopásm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- drátov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F0695-7C90-4748-A17A-658A09D1311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frekvenční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01760" y="1341360"/>
            <a:ext cx="4821480" cy="525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B0F7E-8CEB-430E-9238-7E2BB15B0B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- drátový stejnopásmový (různopásmový) provo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87640" y="3716280"/>
            <a:ext cx="5905440" cy="2360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116000" y="2205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16000" y="436572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924360" y="3429000"/>
            <a:ext cx="11523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04000" y="4437000"/>
            <a:ext cx="11527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95280" y="1628640"/>
            <a:ext cx="5472000" cy="474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4CAA1-78DF-46AE-B2E1-A8DCFED4AA5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DM- Tim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vé dělení kanál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→každý signál má přidělen určitý časový úsek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Úseku přiřadíme jeho okamžitou hodnotu v určitém čase (vzork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zorkovací frekv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usí splňovat Shannon- Kotělnikovův teor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≥ 2*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ro telefonní signál je f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 = 800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CM 1.řá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praxi se TDM kombinuje s digitalizací signálu, tomu odpovídá PCM 1.řá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F146D-6F51-49B3-9E9D-9A46072342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incip časového multiplex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971640" y="1413000"/>
          <a:ext cx="220320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413000"/>
                    <a:ext cx="22032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4038480" cy="2810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4797360"/>
            <a:ext cx="194472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ynchron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0288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70288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0288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0288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563960" y="263700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63960" y="306864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563960" y="3573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563960" y="4005360"/>
            <a:ext cx="186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.kaná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233040" y="1989000"/>
            <a:ext cx="17172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87960" y="1989000"/>
            <a:ext cx="1552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7EBDB-81BB-4B24-94A5-464D0E5668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DM- Code Division Multi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ílčí přenosy jso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"zakódovány" do jediného sp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č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ého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os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účastník si z tohoto celku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ekódu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co mu 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řísluší, pomocí kódu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z přenášených signálů používá jiný kód (pseudonásobnou sekvenc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hoda -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ysoká efektivnost vyu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tí dostupného frekvenčního pásma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77F88B-5161-4F5F-9315-538C7204E1D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0T17:44:08Z</dcterms:created>
  <dc:creator>petr</dc:creator>
  <dc:description/>
  <dc:language>en-US</dc:language>
  <cp:lastModifiedBy>student</cp:lastModifiedBy>
  <dcterms:modified xsi:type="dcterms:W3CDTF">2006-05-23T11:52:58Z</dcterms:modified>
  <cp:revision>34</cp:revision>
  <dc:subject/>
  <dc:title>Multiplexní metody</dc:title>
</cp:coreProperties>
</file>