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6A83-EBCD-4B35-B175-7C4E7951B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7613-DEA0-4E21-A2F3-D068CC283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112D-706F-4E4E-BB93-A7F458E3F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CA2B-F99D-4D7B-B839-49EF4D1CD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0754-F960-4E21-9BD0-E7B5DF215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F522-97BA-4F36-AEC3-B09811741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DDA0-EBEF-47C4-B9FA-1D47BC6B3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DAA1-01F6-4F74-B547-FC91F267F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86BB-6EFC-46E7-B76D-6D02ACBA7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BF2B-BC09-4329-AF33-86FFC21E0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A478-850C-47E5-AC59-E3D18DB88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51B6-30FC-444E-AF28-93BDA3FFE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349360"/>
            <a:ext cx="7772400" cy="16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Multiprotocol Label Switching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(MPL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620640"/>
            <a:ext cx="8207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32TSS - Telekomunikační systémy a sít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5084640"/>
            <a:ext cx="82072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ít Wasserbau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rtin Zahradi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Úv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4920" y="2204640"/>
            <a:ext cx="843588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eposílání paketů realizováno jiným způsobem než v běžné IP sí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vstupu MPLS sítě je paket vybaven značkou (lab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měrovač přeposílá označkovaný paket podle přepínací tabulky a může zároveň měnit hodnotu znač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konci MPLS sítě je značka odejmuta a paket je dále transportován klasickým způsobem na základě IP adre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1413000"/>
            <a:ext cx="813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PLS síť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Mechanismus MPLS sít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933720"/>
            <a:ext cx="822960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SR (Label Switch Router) – směrovač, přepíná pakety na základě MPLS znač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raniční (edge) LS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gress LSR – provádí vložení znač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gress LSR – provádí odebrání znač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195640" y="1413000"/>
            <a:ext cx="46814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truktura znač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49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bit. značka umístěná v rámci 32bit. MPLS hlavičk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340000" y="1700280"/>
            <a:ext cx="4503600" cy="6951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24000" y="2421000"/>
            <a:ext cx="8496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 - experimentální bity pro potřeby klasifikace pake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– bit označující první MPLS značku vloženou do pake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TL – bity s významem jako identické pole v IP hlavič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340000" y="3860640"/>
            <a:ext cx="4560840" cy="16671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24000" y="5516640"/>
            <a:ext cx="849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ložena mezi hlavičku rámce a transportovaný IP pak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Přidělování znač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cílové IP adresy a QoS parametrů (Quality of Servi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příslušnosti paketu do VPN zákazní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multicastové adre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126828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načka může být paketu přidělena např. na základě těchto kritéri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2852640"/>
            <a:ext cx="835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EC (Forwarding Equivalence Class) – množina paketů daným kritériím vyhov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3429000"/>
            <a:ext cx="83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množina FEC -&gt; vlastní značka -&gt; určení cesty MPLS sí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3933720"/>
            <a:ext cx="83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DP (Label Distribution Protocol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4365720"/>
            <a:ext cx="8229600" cy="19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ytváří FEC na základě prefixu IP adre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ároveň distribuce značek jednotlivých FEC mezi uzly MPLS sít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uje následující LSR o přiřazení znač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izováno několik různých LDP – v MPLS síti nemusí být použit pouze j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TM přepínače v MPLS sítí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835164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možné je po změně softwaru použít jako LSR (ATM-LS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zavádí se speciální MPLS hlavič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načky zakódovány do polí VPI/VCI, kam tento přepínač přistupu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3 druhy kódován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C kódování – celé pole VPI/VCI pro značku na vrcholu zásobní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P kódování – do VPI první značka a do VCI druh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P multipoint kódování – jako SVP + do zbytku VCI identifikace vstupního uzlu sít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1268280"/>
            <a:ext cx="80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ěrovací metody MPLS jsou podobné některým starším metodám směrovacích algoritmů, jako jsou např. ATM-přepínač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050920" y="4653000"/>
            <a:ext cx="411480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MPLS/VP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3689280"/>
            <a:ext cx="8229600" cy="28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to dnes asi nejpoužívanější aplikace MPLS technolo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měrovač PE má uvnitř virtuální směrovač pro každého zákazní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jištění bezpečného oddělení všech zákazní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možní zákazníkům používat libovolné adre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elá síť poskytovatele je pro zákazníka ukry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ez velkých paměťových nároků na zařízení poskytovat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476360" y="1125360"/>
            <a:ext cx="5975280" cy="19544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11280" y="3213000"/>
            <a:ext cx="38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PLS VPN páte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Zhodnoce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5280" y="270828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ychlejší a jednodušší směrovač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i zařazování do FEC je k dispozici více informací o pake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možňuje využití nových služ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šší bezpečnost MPLS sí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íť MPLS může směrovat pakety různých protoko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234936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ýhod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013360"/>
            <a:ext cx="8229600" cy="12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řazování do třídy FEC může být složité a časově nároč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tný upgrade hardwaru nebo softwaru všech přepínačů sít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465300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evýhod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119700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ce standardů MPLS umožňuje lepší řízení komunikace v IP sítích, snižuje provozní náklady a umožňuje nové služby, jako jsou např. optické VPN nebo přidělování šířky pásma podle potřeb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16:43:17Z</dcterms:created>
  <dc:creator>petr</dc:creator>
  <dc:description/>
  <dc:language>en-US</dc:language>
  <cp:lastModifiedBy>Vít Wasserbauer</cp:lastModifiedBy>
  <dcterms:modified xsi:type="dcterms:W3CDTF">2006-05-22T15:56:06Z</dcterms:modified>
  <cp:revision>183</cp:revision>
  <dc:subject/>
  <dc:title>X32 ZMK – Semestrální projekt </dc:title>
</cp:coreProperties>
</file>